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1101096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990720" y="5851800"/>
            <a:ext cx="1101096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537300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2640" y="2654280"/>
            <a:ext cx="537300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990720" y="583920"/>
            <a:ext cx="1101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32640" y="2654280"/>
            <a:ext cx="537300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90720" y="585180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537300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3264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632640" y="585180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3264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90720" y="5851800"/>
            <a:ext cx="1101096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1101096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990720" y="5851800"/>
            <a:ext cx="1101096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63264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90720" y="585180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632640" y="585180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13480" y="265428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436600" y="265428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990720" y="585180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4713480" y="585180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8436600" y="585180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3264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0720" y="585180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632640" y="585180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990720" y="2654280"/>
            <a:ext cx="11010960" cy="61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1101096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537300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632640" y="2654280"/>
            <a:ext cx="537300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990720" y="583920"/>
            <a:ext cx="1101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2640" y="2654280"/>
            <a:ext cx="537300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990720" y="585180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537300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3264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632640" y="585180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3264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990720" y="5851800"/>
            <a:ext cx="1101096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1101096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990720" y="5851800"/>
            <a:ext cx="1101096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63264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990720" y="585180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632640" y="585180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265428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36600" y="265428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90720" y="585180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713480" y="585180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436600" y="585180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13480" y="265428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436600" y="265428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990720" y="585180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4713480" y="585180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8436600" y="585180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990720" y="2654280"/>
            <a:ext cx="11010960" cy="61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1101096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537300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2640" y="2654280"/>
            <a:ext cx="537300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990720" y="583920"/>
            <a:ext cx="1101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32640" y="2654280"/>
            <a:ext cx="537300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990720" y="585180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537300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3264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632640" y="585180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3264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990720" y="5851800"/>
            <a:ext cx="1101096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1101096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990720" y="5851800"/>
            <a:ext cx="1101096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63264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990720" y="585180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632640" y="585180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13480" y="265428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8436600" y="265428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990720" y="585180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4713480" y="585180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8436600" y="585180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990720" y="2654280"/>
            <a:ext cx="11010960" cy="61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1101096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537300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632640" y="2654280"/>
            <a:ext cx="537300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990720" y="583920"/>
            <a:ext cx="1101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32640" y="2654280"/>
            <a:ext cx="537300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990720" y="585180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990720" y="2654280"/>
            <a:ext cx="11010960" cy="61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537300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3264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632640" y="585180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3264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90720" y="5851800"/>
            <a:ext cx="1101096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1101096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990720" y="5851800"/>
            <a:ext cx="1101096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3264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585180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632640" y="585180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3480" y="265428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436600" y="265428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990720" y="585180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713480" y="585180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436600" y="585180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990720" y="2654280"/>
            <a:ext cx="11010960" cy="61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1101096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537300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32640" y="2654280"/>
            <a:ext cx="537300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1101096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990720" y="583920"/>
            <a:ext cx="1101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32640" y="2654280"/>
            <a:ext cx="537300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90720" y="585180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537300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3264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32640" y="585180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3264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990720" y="5851800"/>
            <a:ext cx="1101096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1101096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990720" y="5851800"/>
            <a:ext cx="1101096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3264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90720" y="585180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32640" y="585180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13480" y="265428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436600" y="265428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990720" y="585180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713480" y="585180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436600" y="585180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990720" y="2654280"/>
            <a:ext cx="11010960" cy="61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1101096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537300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632640" y="2654280"/>
            <a:ext cx="537300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537300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632640" y="2654280"/>
            <a:ext cx="537300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990720" y="583920"/>
            <a:ext cx="1101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32640" y="2654280"/>
            <a:ext cx="537300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90720" y="585180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537300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63264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632640" y="585180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63264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990720" y="5851800"/>
            <a:ext cx="1101096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1101096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990720" y="5851800"/>
            <a:ext cx="1101096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63264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990720" y="585180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632640" y="585180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13480" y="265428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436600" y="265428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990720" y="585180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713480" y="585180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436600" y="585180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90720" y="2654280"/>
            <a:ext cx="11010960" cy="61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1101096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537300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2640" y="2654280"/>
            <a:ext cx="537300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90720" y="583920"/>
            <a:ext cx="1101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32640" y="2654280"/>
            <a:ext cx="537300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90720" y="585180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537300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3264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632640" y="585180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63264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90720" y="5851800"/>
            <a:ext cx="1101096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1101096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90720" y="5851800"/>
            <a:ext cx="1101096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63264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90720" y="585180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632640" y="585180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990720" y="583920"/>
            <a:ext cx="1101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13480" y="265428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436600" y="265428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90720" y="585180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713480" y="585180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8436600" y="585180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990720" y="2654280"/>
            <a:ext cx="11010960" cy="61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1101096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537300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32640" y="2654280"/>
            <a:ext cx="537300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990720" y="583920"/>
            <a:ext cx="1101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32640" y="2654280"/>
            <a:ext cx="537300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90720" y="585180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537300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3264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632640" y="585180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3264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90720" y="5851800"/>
            <a:ext cx="1101096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32640" y="2654280"/>
            <a:ext cx="537300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990720" y="585180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1101096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990720" y="5851800"/>
            <a:ext cx="1101096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63264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990720" y="585180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632640" y="585180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13480" y="265428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436600" y="265428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990720" y="585180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4713480" y="585180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8436600" y="585180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990720" y="2654280"/>
            <a:ext cx="11010960" cy="61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1101096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537300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2640" y="2654280"/>
            <a:ext cx="537300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990720" y="583920"/>
            <a:ext cx="1101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32640" y="2654280"/>
            <a:ext cx="537300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990720" y="585180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537300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3264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632640" y="585180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537300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3264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632640" y="585180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63264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90720" y="5851800"/>
            <a:ext cx="1101096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1101096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990720" y="5851800"/>
            <a:ext cx="1101096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3264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990720" y="585180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6632640" y="585180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13480" y="265428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436600" y="265428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990720" y="585180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4713480" y="585180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8436600" y="585180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990720" y="2654280"/>
            <a:ext cx="11010960" cy="61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1101096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537300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2640" y="2654280"/>
            <a:ext cx="537300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3264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0720" y="5851800"/>
            <a:ext cx="1101096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990720" y="583920"/>
            <a:ext cx="1101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32640" y="2654280"/>
            <a:ext cx="537300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990720" y="585180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537300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3264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632640" y="585180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63264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990720" y="5851800"/>
            <a:ext cx="1101096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1101096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990720" y="5851800"/>
            <a:ext cx="1101096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632640" y="265428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990720" y="585180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632640" y="5851800"/>
            <a:ext cx="537300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13480" y="265428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436600" y="265428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990720" y="585180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713480" y="585180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8436600" y="5851800"/>
            <a:ext cx="3545280" cy="291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2654280"/>
            <a:ext cx="11010960" cy="61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1101096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018880"/>
            <a:ext cx="5943600" cy="2667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5156280"/>
            <a:ext cx="5943600" cy="232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7000"/>
          </a:bodyPr>
          <a:p>
            <a:pPr marL="1954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5480" indent="-195480" algn="ctr"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95480" indent="-195480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95480" indent="-195480" algn="ctr"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80" indent="-195480" algn="ctr"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195480" indent="-195480" algn="ctr"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195480" indent="-195480" algn="ctr"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Picture 3" descr=""/>
          <p:cNvPicPr/>
          <p:nvPr/>
        </p:nvPicPr>
        <p:blipFill>
          <a:blip r:embed="rId3"/>
          <a:stretch/>
        </p:blipFill>
        <p:spPr>
          <a:xfrm>
            <a:off x="-825480" y="4724280"/>
            <a:ext cx="7597800" cy="29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90720" y="2654280"/>
            <a:ext cx="513072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1000"/>
          </a:bodyPr>
          <a:p>
            <a:pPr marL="517320" indent="-327600">
              <a:spcBef>
                <a:spcPts val="3699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040" indent="-327600">
              <a:spcBef>
                <a:spcPts val="3699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7760" indent="-327600">
              <a:spcBef>
                <a:spcPts val="3699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896840" indent="-327960">
              <a:spcBef>
                <a:spcPts val="3699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56560" indent="-327600">
              <a:spcBef>
                <a:spcPts val="3699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56560" indent="-327600">
              <a:spcBef>
                <a:spcPts val="3699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56560" indent="-327600">
              <a:spcBef>
                <a:spcPts val="3699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3" descr=""/>
          <p:cNvPicPr/>
          <p:nvPr/>
        </p:nvPicPr>
        <p:blipFill>
          <a:blip r:embed="rId3"/>
          <a:stretch/>
        </p:blipFill>
        <p:spPr>
          <a:xfrm>
            <a:off x="0" y="1905120"/>
            <a:ext cx="12433320" cy="48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990720" y="2654280"/>
            <a:ext cx="1101096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0000"/>
          </a:bodyPr>
          <a:p>
            <a:pPr marL="696960" indent="-456840">
              <a:spcBef>
                <a:spcPts val="20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79800" indent="-456840">
              <a:spcBef>
                <a:spcPts val="20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1851480" indent="-456840">
              <a:spcBef>
                <a:spcPts val="20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3" marL="2445840" indent="-456840">
              <a:spcBef>
                <a:spcPts val="20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4" marL="3029040" indent="-456840">
              <a:spcBef>
                <a:spcPts val="20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5" marL="3029040" indent="-456840">
              <a:spcBef>
                <a:spcPts val="20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9040" indent="-456840">
              <a:spcBef>
                <a:spcPts val="20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" name="Picture 3" descr=""/>
          <p:cNvPicPr/>
          <p:nvPr/>
        </p:nvPicPr>
        <p:blipFill>
          <a:blip r:embed="rId3"/>
          <a:stretch/>
        </p:blipFill>
        <p:spPr>
          <a:xfrm>
            <a:off x="0" y="1905120"/>
            <a:ext cx="12433320" cy="48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90720" y="2654280"/>
            <a:ext cx="513072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1000"/>
          </a:bodyPr>
          <a:p>
            <a:pPr marL="517320" indent="-327600">
              <a:spcBef>
                <a:spcPts val="3699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040" indent="-327600">
              <a:spcBef>
                <a:spcPts val="3699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7760" indent="-327600">
              <a:spcBef>
                <a:spcPts val="3699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896840" indent="-327960">
              <a:spcBef>
                <a:spcPts val="3699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56560" indent="-327600">
              <a:spcBef>
                <a:spcPts val="3699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56560" indent="-327600">
              <a:spcBef>
                <a:spcPts val="3699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56560" indent="-327600">
              <a:spcBef>
                <a:spcPts val="3699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3"/>
          <a:stretch/>
        </p:blipFill>
        <p:spPr>
          <a:xfrm>
            <a:off x="0" y="1905120"/>
            <a:ext cx="12433320" cy="48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873920" y="2654280"/>
            <a:ext cx="412776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66200" indent="-295560">
              <a:spcBef>
                <a:spcPts val="3699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80560" indent="-295560">
              <a:spcBef>
                <a:spcPts val="3699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7000" indent="-295560">
              <a:spcBef>
                <a:spcPts val="3699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0000" indent="-295560">
              <a:spcBef>
                <a:spcPts val="3699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124360" indent="-295560">
              <a:spcBef>
                <a:spcPts val="3699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124360" indent="-295560">
              <a:spcBef>
                <a:spcPts val="3699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124360" indent="-295560">
              <a:spcBef>
                <a:spcPts val="3699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3"/>
          <a:stretch/>
        </p:blipFill>
        <p:spPr>
          <a:xfrm>
            <a:off x="0" y="1905120"/>
            <a:ext cx="12433320" cy="48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90720" y="2654280"/>
            <a:ext cx="1101096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marL="655560" indent="-415440">
              <a:spcBef>
                <a:spcPts val="3699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238400" indent="-415440">
              <a:spcBef>
                <a:spcPts val="3699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810080" indent="-415440">
              <a:spcBef>
                <a:spcPts val="3699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2404440" indent="-415800">
              <a:spcBef>
                <a:spcPts val="3699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987280" indent="-415440">
              <a:spcBef>
                <a:spcPts val="3699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987280" indent="-415440">
              <a:spcBef>
                <a:spcPts val="3699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987280" indent="-415440">
              <a:spcBef>
                <a:spcPts val="3699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3"/>
          <a:stretch/>
        </p:blipFill>
        <p:spPr>
          <a:xfrm>
            <a:off x="0" y="1905120"/>
            <a:ext cx="12433320" cy="48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51040" y="1523880"/>
            <a:ext cx="11290320" cy="307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3"/>
          <a:stretch/>
        </p:blipFill>
        <p:spPr>
          <a:xfrm>
            <a:off x="0" y="4584600"/>
            <a:ext cx="12433320" cy="482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90720" y="965160"/>
            <a:ext cx="11010960" cy="781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689400" indent="-451800">
              <a:spcBef>
                <a:spcPts val="46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65760" indent="-451800">
              <a:spcBef>
                <a:spcPts val="46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1830960" indent="-451800">
              <a:spcBef>
                <a:spcPts val="46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3" marL="2418480" indent="-451800">
              <a:spcBef>
                <a:spcPts val="46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4" marL="2995200" indent="-451800">
              <a:spcBef>
                <a:spcPts val="46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5" marL="2995200" indent="-451800">
              <a:spcBef>
                <a:spcPts val="46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6" marL="2995200" indent="-451800">
              <a:spcBef>
                <a:spcPts val="46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3"/>
          <a:stretch/>
        </p:blipFill>
        <p:spPr>
          <a:xfrm>
            <a:off x="0" y="1905120"/>
            <a:ext cx="12433320" cy="48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34680" y="7543800"/>
            <a:ext cx="1173492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Conformity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990720" y="2654280"/>
            <a:ext cx="1101096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774720" indent="-507960">
              <a:spcBef>
                <a:spcPts val="20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ehaviour in agreement with generally accepted standards and practices; pressures that encourage us to accept social norms.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6" descr=""/>
          <p:cNvPicPr/>
          <p:nvPr/>
        </p:nvPicPr>
        <p:blipFill>
          <a:blip r:embed="rId2"/>
          <a:stretch/>
        </p:blipFill>
        <p:spPr>
          <a:xfrm>
            <a:off x="177840" y="152280"/>
            <a:ext cx="4572000" cy="386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onformity…GOO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1101096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25480" indent="-507960">
              <a:spcBef>
                <a:spcPts val="2001"/>
              </a:spcBef>
              <a:buSzPct val="15948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Encourages social interaction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825480" indent="-507960">
              <a:spcBef>
                <a:spcPts val="2001"/>
              </a:spcBef>
              <a:buSzPct val="1594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Creates predictable behaviour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825480" indent="-507960">
              <a:spcBef>
                <a:spcPts val="2001"/>
              </a:spcBef>
              <a:buSzPct val="15948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Maintains social order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onformity…. BA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1101096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25480" indent="-507960">
              <a:spcBef>
                <a:spcPts val="2001"/>
              </a:spcBef>
              <a:buSzPct val="15948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Discourages social change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825480" indent="-507960">
              <a:spcBef>
                <a:spcPts val="2001"/>
              </a:spcBef>
              <a:buSzPct val="1594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Can lead people to resist the temptation to do things differently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825480" indent="-507960">
              <a:spcBef>
                <a:spcPts val="2001"/>
              </a:spcBef>
              <a:buSzPct val="15948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Can encourage people to accept practices that are wrong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82400" y="685440"/>
            <a:ext cx="11010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Alienation…GOO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1101096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25480" indent="-507960">
              <a:spcBef>
                <a:spcPts val="2001"/>
              </a:spcBef>
              <a:buSzPct val="15948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Spurs reformers into action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825480" indent="-507960">
              <a:spcBef>
                <a:spcPts val="2001"/>
              </a:spcBef>
              <a:buSzPct val="1594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Leads individuals to struggle with the status quo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825480" indent="-507960">
              <a:spcBef>
                <a:spcPts val="2001"/>
              </a:spcBef>
              <a:buSzPct val="15948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Leaders and movements in society are born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Alienation…BA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1101096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25480" indent="-507960">
              <a:spcBef>
                <a:spcPts val="2001"/>
              </a:spcBef>
              <a:buSzPct val="15948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Can be so severe that people give up and accept life in the margins of society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825480" indent="-507960">
              <a:spcBef>
                <a:spcPts val="2001"/>
              </a:spcBef>
              <a:buSzPct val="1594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Can lead to suicide or substance abuse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Social Norms</a:t>
            </a: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990720" y="2654280"/>
            <a:ext cx="1101096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774720" indent="-507960">
              <a:spcBef>
                <a:spcPts val="20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 standard shared by members of a group, to which members are expected to conform. The most typical behaviour, attitudes or opinions found in a group.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Alienation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990720" y="2654280"/>
            <a:ext cx="1101096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774720" indent="-507960">
              <a:spcBef>
                <a:spcPts val="20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 feeling that one does not share in the major values and goals of society. Marx wrote about the alienation of the proletariet, but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now the term applies to anyone who does not share the major values in society and feels like an outsider. 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2"/>
          <a:stretch/>
        </p:blipFill>
        <p:spPr>
          <a:xfrm>
            <a:off x="711360" y="457200"/>
            <a:ext cx="2819160" cy="24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940600" y="2971440"/>
            <a:ext cx="281916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Anarchy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1092240" y="6248520"/>
            <a:ext cx="9753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 theory that regards the absence of all direct or coercive government as a political ideal, and that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proposes the cooperative and voluntary association of individuals and groups as the principal mode of organized society.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Picture 5" descr=""/>
          <p:cNvPicPr/>
          <p:nvPr/>
        </p:nvPicPr>
        <p:blipFill>
          <a:blip r:embed="rId1"/>
          <a:stretch/>
        </p:blipFill>
        <p:spPr>
          <a:xfrm>
            <a:off x="406440" y="609480"/>
            <a:ext cx="7869240" cy="510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Anarchy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990720" y="2654280"/>
            <a:ext cx="1101096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774720" indent="-50796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4720" indent="-50796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absence of authority and/or government.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4720" indent="-50796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4720" indent="-50796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olitical and social disorder due to the absence of governmental contro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4720" indent="-50796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4720" indent="-50796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 person that has felt extreme alienation is considered to be an anarchi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74720" indent="-50796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Picture 4" descr=""/>
          <p:cNvPicPr/>
          <p:nvPr/>
        </p:nvPicPr>
        <p:blipFill>
          <a:blip r:embed="rId2"/>
          <a:stretch/>
        </p:blipFill>
        <p:spPr>
          <a:xfrm>
            <a:off x="1244520" y="762120"/>
            <a:ext cx="3276720" cy="248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0" y="-990720"/>
            <a:ext cx="11290320" cy="307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Civil Disobedience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851040" y="5156280"/>
            <a:ext cx="11290320" cy="322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0000"/>
          </a:bodyPr>
          <a:p>
            <a:pPr marL="542160" indent="-355320">
              <a:spcBef>
                <a:spcPts val="20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42160" indent="-355320">
              <a:spcBef>
                <a:spcPts val="20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fusal to obey certain laws or governmental demands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 purpose of influencing legislation or government policy, characterized by employment of non violent techniques: boycotting, picketing, and nonpayment of taxes.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Picture 4" descr=""/>
          <p:cNvPicPr/>
          <p:nvPr/>
        </p:nvPicPr>
        <p:blipFill>
          <a:blip r:embed="rId2"/>
          <a:stretch/>
        </p:blipFill>
        <p:spPr>
          <a:xfrm>
            <a:off x="8788320" y="304920"/>
            <a:ext cx="3876840" cy="46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72920" y="2895480"/>
            <a:ext cx="11289960" cy="4724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nscientiousnes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act out of self-respect, moral consistency and perception of the interest of society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to show personal disapproval of law (s) and raise public awareness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ublicit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openness with fair legal notice to authority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on-Violen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(not always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6"/>
          <p:cNvSpPr/>
          <p:nvPr/>
        </p:nvSpPr>
        <p:spPr>
          <a:xfrm>
            <a:off x="923760" y="1727280"/>
            <a:ext cx="109890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7"/>
          <p:cNvSpPr/>
          <p:nvPr/>
        </p:nvSpPr>
        <p:spPr>
          <a:xfrm>
            <a:off x="1549440" y="60948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ivil Disobedience: Key Features:</a:t>
            </a:r>
            <a:br>
              <a:rPr sz="3600"/>
            </a:b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8"/>
          <p:cNvSpPr/>
          <p:nvPr/>
        </p:nvSpPr>
        <p:spPr>
          <a:xfrm>
            <a:off x="7264440" y="3708360"/>
            <a:ext cx="510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Activism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990720" y="2654280"/>
            <a:ext cx="1101096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Involvement as a means of achieving political or other goals, sometimes by demonstrations, protests, etc.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Picture 4" descr=""/>
          <p:cNvPicPr/>
          <p:nvPr/>
        </p:nvPicPr>
        <p:blipFill>
          <a:blip r:embed="rId1"/>
          <a:stretch/>
        </p:blipFill>
        <p:spPr>
          <a:xfrm>
            <a:off x="254160" y="1219320"/>
            <a:ext cx="428616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1244520" y="533520"/>
            <a:ext cx="10287000" cy="71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UR CORNERS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formity- GOOD?           Conformity- BAD?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ienation- GOOD?           Alienation- BAD?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911760" y="3276720"/>
            <a:ext cx="4876560" cy="3657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149640" y="3124080"/>
            <a:ext cx="68580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2921040" y="6705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8940600" y="3124080"/>
            <a:ext cx="10666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 flipV="1">
            <a:off x="8864280" y="6629400"/>
            <a:ext cx="7621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lie Pietowski</dc:creator>
  <dc:description/>
  <dc:language>en-US</dc:language>
  <cp:lastModifiedBy>User</cp:lastModifiedBy>
  <dcterms:modified xsi:type="dcterms:W3CDTF">2011-02-14T20:32:04Z</dcterms:modified>
  <cp:revision>5</cp:revision>
  <dc:subject/>
  <dc:title>Conformity</dc:title>
</cp:coreProperties>
</file>